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9F8-66D3-477D-A2A5-E13EF59A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ED1-8644-4823-82A2-D8E2EED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8F8-0004-4CFB-90A0-7B96F233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B72-855C-4717-813F-AF2C509E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987-1B2E-4BBB-9AC4-377FB53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E15-FD5A-4A11-B436-94C4F45C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4D0-2105-497F-B08B-9D8832E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47C-0CC9-408F-8752-867DF715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FEB-0C14-469D-9980-C06CBBD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1CB-5724-4003-BBBD-3FBBB76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696-F4A1-492F-AEB2-F9FFFCE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A66-BDB4-4BDF-937A-E8A9DDA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8E9-E721-4D73-920C-71D3FBEC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rkin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5253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pril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P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762120"/>
            <a:ext cx="533376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ol-Aid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5820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9436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867280"/>
            <a:ext cx="556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5/7/2010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erkins"/>
          <p:cNvPicPr/>
          <p:nvPr/>
        </p:nvPicPr>
        <p:blipFill>
          <a:blip r:embed="rId1"/>
          <a:stretch/>
        </p:blipFill>
        <p:spPr>
          <a:xfrm>
            <a:off x="152280" y="571680"/>
            <a:ext cx="8458200" cy="42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30481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952880"/>
            <a:ext cx="7010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ol-A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rki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867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l-Aid has many different flavors without Kool-Aid juice would not be good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One company sold a item called “Fruit Smac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n 1927,Perkins thought it was easier to sell it in powder then liq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t was easier because then they wouldn’t have to ship so much liq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So the powder was packaged into packages and shi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Also before that “Kool-Aid” was spelled “Kool-Ade” but later on he put it as “Kool-Ai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3720" y="38088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vention: Kool-Aid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When Edwin was young he loved making conco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At age 25 Perkins opened up a business called “Perkins Products C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He did that so he can sell the numorous items h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e company sold perfumes and other advertis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In 1918, Perkins got married to the love of his life “kitt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304920"/>
            <a:ext cx="5181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ventor: Edwin Perkins</a:t>
            </a:r>
            <a:endParaRPr b="0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5Z</dcterms:created>
  <dc:creator>install</dc:creator>
  <dc:description/>
  <dc:language>en-US</dc:language>
  <cp:lastModifiedBy>install</cp:lastModifiedBy>
  <dcterms:modified xsi:type="dcterms:W3CDTF">2010-05-12T17:35:13Z</dcterms:modified>
  <cp:revision>10</cp:revision>
  <dc:subject/>
  <dc:title>Slide 1</dc:title>
</cp:coreProperties>
</file>